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45D-03F9-4436-92A4-6E3EE0E7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45E-AA4D-49C2-B8C2-A76EE1CA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C55-7ACA-4B55-980A-199D9AF4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31A-9ADE-4900-A2C0-3C652131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90E-4ECD-4C51-828E-72F72144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3D5-5A44-48A0-8111-507F041B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B22-7338-4AD9-B4DA-7D49E0E1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237-78A6-488A-9F34-849DD3B6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B85-CAC8-4B92-BF54-205FD331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6EE-9039-44F2-B683-1484F64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1A7-5339-4552-842E-04673821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EA9-07E0-47D4-B896-FADBA183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5AB8-E097-4AE5-BD71-9A4F9D3D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5880" y="630360"/>
            <a:ext cx="7543800" cy="55623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57160" y="719280"/>
            <a:ext cx="7400880" cy="538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54000" y="804960"/>
            <a:ext cx="7209000" cy="52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52840" y="857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ertificate of Bap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52840" y="1308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This is to certify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9760" y="18493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at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8520" y="2306520"/>
            <a:ext cx="651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as Baptized in the Name of the Father, and of the Son, and of the Holy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43080" y="276372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On the  _______  day of  _________________  in the  _______  year of Our L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5640" y="5348160"/>
            <a:ext cx="70628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According to the Rite of the Catholic Church in pure and natural w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With the intention to remit  . . .  and for the remission of Original Si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55680" y="38307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At 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0320" y="4297320"/>
            <a:ext cx="47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Baptized by 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0320" y="4764240"/>
            <a:ext cx="47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nessed by  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52840" y="3324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 ~ 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6:38:45Z</dcterms:created>
  <dc:creator>Mike Bizzaro</dc:creator>
  <dc:description/>
  <dc:language>en-US</dc:language>
  <cp:lastModifiedBy>Mike Bizzaro</cp:lastModifiedBy>
  <dcterms:modified xsi:type="dcterms:W3CDTF">2011-06-04T17:25:57Z</dcterms:modified>
  <cp:revision>9</cp:revision>
  <dc:subject/>
  <dc:title>Slide 1</dc:title>
</cp:coreProperties>
</file>